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FD1D-EC1D-4E1D-B79D-3879FB037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ignObservationReadTes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VdmDozerMapperTest</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굴림"/>
              </a:rPr>
              <a:t>testVitalDelet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 vitals 9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DM vitals 77% (emf/ecore classes not used by test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 mapping 89%</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70918-3AC4-4C06-9A0F-699E0B642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264C3-4E3D-4B72-99FF-D2758E1F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30A54-BB7F-4B85-B13C-9C9BD78E4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CD5D2-0D42-41E3-A78C-101C1548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96089-3146-45A7-8998-56392698C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142A6-34AB-45A1-85BC-4720C8659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2D91-5EA3-4140-8566-3C5DA756B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FF5FB-812C-4E13-8AB9-B647FEF1D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456A4-06C6-4960-84C2-1458BBF50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8E06D-5124-4C1B-B693-69AE66D2D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E981D-7724-499B-AF05-920CD4480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63D1-6553-4967-BB00-8468EE85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D12CF-A09D-4FC3-872A-BBBEE91F1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F01DA-D464-43AE-87A9-D3B53D8B4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76E81-D645-4B57-A961-8DE7802FC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1B4D0-3812-4AA2-8F71-7A761239A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C1792-E8B6-4CCB-92DA-EA255EE1C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B356-D7D7-40C0-971B-24BAC2F8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2E80-571C-4750-8E9F-0409CF475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CDB9-5A20-4FD7-B293-0DB3D27E3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0A6B-AAB1-4B7D-B53E-B4F47063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00EA-E98A-4D05-B858-27ED7D4BA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6657-CBD7-48C7-A12C-5232EA336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A47D-B9AC-4B7D-BF4A-CB00B2E41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31F9-E74E-4CED-9500-769BE98E4BE5}"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7803-E09D-4A14-9DB7-E5AB5DEAD14E}"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76520"/>
            <a:ext cx="777240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ebd189"/>
                </a:solidFill>
                <a:latin typeface="Impact"/>
              </a:rPr>
              <a:t>Implement New Domain</a:t>
            </a:r>
            <a:br>
              <a:rPr sz="4000"/>
            </a:br>
            <a:br>
              <a:rPr sz="4000"/>
            </a:br>
            <a:br>
              <a:rPr sz="4000"/>
            </a:br>
            <a:endParaRPr b="0" lang="en-US" sz="40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Hibernate Test</a:t>
            </a:r>
            <a:endParaRPr b="0" lang="en-US" sz="5400" spc="-1" strike="noStrike">
              <a:solidFill>
                <a:srgbClr val="ebd189"/>
              </a:solidFill>
              <a:latin typeface="Impact"/>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1" lang="en-US" sz="2000" spc="-1" strike="noStrike">
                <a:solidFill>
                  <a:srgbClr val="eaeaea"/>
                </a:solidFill>
                <a:latin typeface="Arial Narrow"/>
              </a:rPr>
              <a:t>public</a:t>
            </a:r>
            <a:r>
              <a:rPr b="0" lang="en-US" sz="2000" spc="-1" strike="noStrike">
                <a:solidFill>
                  <a:srgbClr val="eaeaea"/>
                </a:solidFill>
                <a:latin typeface="Arial Narrow"/>
              </a:rPr>
              <a:t> </a:t>
            </a:r>
            <a:r>
              <a:rPr b="1" lang="en-US" sz="2000" spc="-1" strike="noStrike">
                <a:solidFill>
                  <a:srgbClr val="eaeaea"/>
                </a:solidFill>
                <a:latin typeface="Arial Narrow"/>
              </a:rPr>
              <a:t>void</a:t>
            </a:r>
            <a:r>
              <a:rPr b="0" lang="en-US" sz="2000" spc="-1" strike="noStrike">
                <a:solidFill>
                  <a:srgbClr val="eaeaea"/>
                </a:solidFill>
                <a:latin typeface="Arial Narrow"/>
              </a:rPr>
              <a:t> testVitalPersistRecord( ) </a:t>
            </a:r>
            <a:r>
              <a:rPr b="1" lang="en-US" sz="2000" spc="-1" strike="noStrike">
                <a:solidFill>
                  <a:srgbClr val="eaeaea"/>
                </a:solidFill>
                <a:latin typeface="Arial Narrow"/>
              </a:rPr>
              <a:t>throws</a:t>
            </a:r>
            <a:r>
              <a:rPr b="0" lang="en-US" sz="2000" spc="-1" strike="noStrike">
                <a:solidFill>
                  <a:srgbClr val="eaeaea"/>
                </a:solidFill>
                <a:latin typeface="Arial Narrow"/>
              </a:rPr>
              <a:t> Excep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ransaction tx = session.beginTransac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VitalSignObservationEvent vital = </a:t>
            </a:r>
            <a:r>
              <a:rPr b="1" lang="en-US" sz="2000" spc="-1" strike="noStrike">
                <a:solidFill>
                  <a:srgbClr val="eaeaea"/>
                </a:solidFill>
                <a:latin typeface="Arial Narrow"/>
              </a:rPr>
              <a:t>new</a:t>
            </a:r>
            <a:r>
              <a:rPr b="0" lang="en-US" sz="2000" spc="-1" strike="noStrike">
                <a:solidFill>
                  <a:srgbClr val="eaeaea"/>
                </a:solidFill>
                <a:latin typeface="Arial Narrow"/>
              </a:rPr>
              <a:t> CdmVitalsBuilder().makeVital();</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save( vital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x.commi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close();</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ort latest VDM3400 project</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itial installation requires 1) Install EMF plug-ins and create EMF project and 2) import project into i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TemplateMaster.genmodel properties</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sure Base package/Prefix and Package are correc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enerate VDM objects by right clicking TemplateMaster.genmodel and selecting ‘Generate Model’</a:t>
            </a:r>
            <a:r>
              <a:rPr b="0" lang="en-US" sz="2800" spc="-1" strike="noStrike">
                <a:solidFill>
                  <a:srgbClr val="eaeaea"/>
                </a:solidFill>
                <a:latin typeface="Arial Narrow"/>
              </a:rPr>
              <a:t>	</a:t>
            </a:r>
            <a:endParaRPr b="0" lang="en-US" sz="2800" spc="-1" strike="noStrike">
              <a:solidFill>
                <a:srgbClr val="eaeaea"/>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dit generated objects by making constructors public and removing ‘@generated’ flag annotations so they aren’t overlaid if regenerated</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dded methods to support collections</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opy VDM objects to development project (redrock)</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Build Dozer Mapping Files</a:t>
            </a:r>
            <a:endParaRPr b="0" lang="en-US" sz="5400" spc="-1" strike="noStrike">
              <a:solidFill>
                <a:srgbClr val="ebd189"/>
              </a:solidFill>
              <a:latin typeface="Impact"/>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mapping file that mapped the outermost objects and its contained object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factored existing dozer mapping files (common) to be reusable between domain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converter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eam Standard</a:t>
            </a:r>
            <a:endParaRPr b="0" lang="en-US" sz="20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wildcard="false" to ensure all fields are specified</a:t>
            </a:r>
            <a:endParaRPr b="0" lang="en-US" sz="18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Document both classes fields to be mapped</a:t>
            </a:r>
            <a:endParaRPr b="0" lang="en-US" sz="18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a ( gov.va.med.cds.vdm.vhim3400.vitals.VitalSignObservationEven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ActId id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observedCharacteristic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status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b ( gov.va.med.cds.cdm.vitals.VitalSignObservationEvent )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Identity identity;</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observedCharacteristicCode;</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statusCode;</a:t>
            </a: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Dozer Mapping Test</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SuppressWarnings( "unchecked"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Test( groups = { "checkintest" }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public</a:t>
            </a:r>
            <a:r>
              <a:rPr b="0" lang="en-US" sz="1400" spc="-1" strike="noStrike">
                <a:solidFill>
                  <a:srgbClr val="eaeaea"/>
                </a:solidFill>
                <a:latin typeface="Arial Narrow"/>
              </a:rPr>
              <a:t> </a:t>
            </a:r>
            <a:r>
              <a:rPr b="1" lang="en-US" sz="1400" spc="-1" strike="noStrike">
                <a:solidFill>
                  <a:srgbClr val="eaeaea"/>
                </a:solidFill>
                <a:latin typeface="Arial Narrow"/>
              </a:rPr>
              <a:t>void</a:t>
            </a:r>
            <a:r>
              <a:rPr b="0" lang="en-US" sz="1400" spc="-1" strike="noStrike">
                <a:solidFill>
                  <a:srgbClr val="eaeaea"/>
                </a:solidFill>
                <a:latin typeface="Arial Narrow"/>
              </a:rPr>
              <a:t> testCdmVitalToVdmVital(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throws</a:t>
            </a:r>
            <a:r>
              <a:rPr b="0" lang="en-US" sz="1400" spc="-1" strike="noStrike">
                <a:solidFill>
                  <a:srgbClr val="eaeaea"/>
                </a:solidFill>
                <a:latin typeface="Arial Narrow"/>
              </a:rPr>
              <a:t> MappingException</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gov.va.med.cds.cdm.clinicaldata.ClinicalData clinicalData = </a:t>
            </a:r>
            <a:r>
              <a:rPr b="1" lang="en-US" sz="1400" spc="-1" strike="noStrike">
                <a:solidFill>
                  <a:srgbClr val="eaeaea"/>
                </a:solidFill>
                <a:latin typeface="Arial Narrow"/>
              </a:rPr>
              <a:t>new</a:t>
            </a:r>
            <a:r>
              <a:rPr b="0" lang="en-US" sz="1400" spc="-1" strike="noStrike">
                <a:solidFill>
                  <a:srgbClr val="eaeaea"/>
                </a:solidFill>
                <a:latin typeface="Arial Narrow"/>
              </a:rPr>
              <a:t> gov.va.med.cds.cdm.clinicaldata.ClinicalData();</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List&lt;gov.va.med.cds.cdm.vitals.VitalSignObservationEvent&gt; vitals = </a:t>
            </a:r>
            <a:r>
              <a:rPr b="1" lang="en-US" sz="1400" spc="-1" strike="noStrike">
                <a:solidFill>
                  <a:srgbClr val="eaeaea"/>
                </a:solidFill>
                <a:latin typeface="Arial Narrow"/>
              </a:rPr>
              <a:t>new</a:t>
            </a:r>
            <a:r>
              <a:rPr b="0" lang="en-US" sz="1400" spc="-1" strike="noStrike">
                <a:solidFill>
                  <a:srgbClr val="eaeaea"/>
                </a:solidFill>
                <a:latin typeface="Arial Narrow"/>
              </a:rPr>
              <a:t> CdmVitalsBuilder().makeVitals(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getVitalSignObservationEvent().addAll( vitals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Object vdmTemplate = mapper.mapCdmToVdm(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vdmTemplate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vdmTemplate </a:t>
            </a:r>
            <a:r>
              <a:rPr b="1" lang="en-US" sz="1400" spc="-1" strike="noStrike">
                <a:solidFill>
                  <a:srgbClr val="eaeaea"/>
                </a:solidFill>
                <a:latin typeface="Arial Narrow"/>
              </a:rPr>
              <a:t>instanceof</a:t>
            </a:r>
            <a:r>
              <a:rPr b="0" lang="en-US" sz="1400" spc="-1" strike="noStrike">
                <a:solidFill>
                  <a:srgbClr val="eaeaea"/>
                </a:solidFill>
                <a:latin typeface="Arial Narrow"/>
              </a:rPr>
              <a:t>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 t = ( ClinicalData )vdmTemplate;</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t.get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Equals</a:t>
            </a:r>
            <a:r>
              <a:rPr b="0" lang="en-US" sz="1400" spc="-1" strike="noStrike">
                <a:solidFill>
                  <a:srgbClr val="eaeaea"/>
                </a:solidFill>
                <a:latin typeface="Arial Narrow"/>
              </a:rPr>
              <a:t>( t.getVitalSignObservationEvent().size(),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t.getVitalSignObservationEvent().get( 0 ) </a:t>
            </a:r>
            <a:r>
              <a:rPr b="1" lang="en-US" sz="1400" spc="-1" strike="noStrike">
                <a:solidFill>
                  <a:srgbClr val="eaeaea"/>
                </a:solidFill>
                <a:latin typeface="Arial Narrow"/>
              </a:rPr>
              <a:t>instanceof</a:t>
            </a:r>
            <a:r>
              <a:rPr b="0" lang="en-US" sz="1400" spc="-1" strike="noStrike">
                <a:solidFill>
                  <a:srgbClr val="eaeaea"/>
                </a:solidFill>
                <a:latin typeface="Arial Narrow"/>
              </a:rPr>
              <a:t> gov.va.med.cds.vdm.vhim3400.vitals.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Update Framework to support new Domain</a:t>
            </a:r>
            <a:endParaRPr b="0" lang="en-US" sz="4800" spc="-1" strike="noStrike">
              <a:solidFill>
                <a:srgbClr val="ebd189"/>
              </a:solidFill>
              <a:latin typeface="Impact"/>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d schemas (TemplateMaster, ***) to include new Domai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a strict implementation of Template Master for testing of marshalling and Transformatio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Domain VDM Builder</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 appropriate domain specific logic (CustomClinicaldataFilteredResultsAssembler, ClinicalData, DefaultTransactionManager, etc).  How to documen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Comprehensive Tests (marshalling/integration)</a:t>
            </a: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Agenda </a:t>
            </a:r>
            <a:endParaRPr b="0" lang="en-US" sz="4400" spc="-1" strike="noStrike">
              <a:solidFill>
                <a:srgbClr val="ebd189"/>
              </a:solidFill>
              <a:latin typeface="Impact"/>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Tasks \ Tests \ Code Coverage</a:t>
            </a:r>
            <a:endParaRPr b="0" lang="en-US" sz="3600" spc="-1" strike="noStrike">
              <a:solidFill>
                <a:srgbClr val="eaeaea"/>
              </a:solidFill>
              <a:latin typeface="Arial Narrow"/>
            </a:endParaRPr>
          </a:p>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Steps to add a New Domain </a:t>
            </a:r>
            <a:endParaRPr b="0" lang="en-US" sz="36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iation of Model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Hibernate Mapping File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VDM Object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Dozer Mapping Files </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pdate Framework to support new Domain</a:t>
            </a:r>
            <a:endParaRPr b="0" lang="en-US" sz="3200" spc="-1" strike="noStrike">
              <a:solidFill>
                <a:srgbClr val="eaeaea"/>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a:t>
            </a:r>
            <a:endParaRPr b="0" lang="en-US" sz="4400" spc="-1" strike="noStrike">
              <a:solidFill>
                <a:srgbClr val="ebd189"/>
              </a:solidFill>
              <a:latin typeface="Impact"/>
            </a:endParaRPr>
          </a:p>
        </p:txBody>
      </p:sp>
      <p:sp>
        <p:nvSpPr>
          <p:cNvPr id="116" name="PlaceHolder 2"/>
          <p:cNvSpPr>
            <a:spLocks noGrp="1"/>
          </p:cNvSpPr>
          <p:nvPr>
            <p:ph/>
          </p:nvPr>
        </p:nvSpPr>
        <p:spPr>
          <a:xfrm>
            <a:off x="1066680" y="1676160"/>
            <a:ext cx="7772400" cy="48006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굴림"/>
              </a:rPr>
              <a:t>Track 1 – Implement the vitals domain using the modified version of VHIM 3.4* (Vic, Michael) *the modified version took the 3.4 model that the VHIM team created and introduced many of the model simplifications applied during the 2nd VHIM microproject and introduced classes to support longitudinal queries)</a:t>
            </a:r>
            <a:endParaRPr b="0" lang="en-US" sz="24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Create the modified VHIM model for vitals and all associated artifact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DR II database scheme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ibernate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VDM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VHIM 3.4 V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Refactor the template and filter processor components to support VHIM 3.4 vitals as needed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 with Associated Tests</a:t>
            </a:r>
            <a:endParaRPr b="0" lang="en-US" sz="4400" spc="-1" strike="noStrike">
              <a:solidFill>
                <a:srgbClr val="ebd189"/>
              </a:solidFill>
              <a:latin typeface="Impact"/>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PersistenceManagerTest, VitalSignObservationReadTest</a:t>
            </a:r>
            <a:endParaRPr b="0" lang="en-US" sz="20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Create the modified VHIM model for vitals and all associated artifact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DR II database scheme to support VHIM 3.4 vital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ibernate mapping to support model changes</a:t>
            </a:r>
            <a:endParaRPr b="0" lang="en-US" sz="1600" spc="-1" strike="noStrike">
              <a:solidFill>
                <a:srgbClr val="eaeaea"/>
              </a:solidFill>
              <a:latin typeface="Arial Narrow"/>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VdmMarshalUnmarshalTest, CRUADTemplateMarshallTest, CdmVdmDozerMapper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4.</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5.</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VDM mapping to support model changes</a:t>
            </a:r>
            <a:endParaRPr b="0" lang="en-US" sz="1600" spc="-1" strike="noStrike">
              <a:solidFill>
                <a:srgbClr val="eaeaea"/>
              </a:solidFill>
              <a:latin typeface="Arial Narrow"/>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EndToEndCRUADAutoWired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6.</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VHIM 3.4 V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7.</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Refactor the template and filter processor components to support VHIM 3.4 vitals as needed</a:t>
            </a:r>
            <a:endParaRPr b="0" lang="en-US" sz="1600" spc="-1" strike="noStrike">
              <a:solidFill>
                <a:srgbClr val="eaeaea"/>
              </a:solidFill>
              <a:latin typeface="Arial Narrow"/>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Impact"/>
              </a:rPr>
              <a:t>Code Coverage</a:t>
            </a:r>
            <a:endParaRPr b="0" lang="en-US" sz="3200" spc="-1" strike="noStrike">
              <a:solidFill>
                <a:srgbClr val="ebd189"/>
              </a:solidFill>
              <a:latin typeface="Impact"/>
            </a:endParaRPr>
          </a:p>
        </p:txBody>
      </p:sp>
      <p:pic>
        <p:nvPicPr>
          <p:cNvPr id="120" name="" descr=""/>
          <p:cNvPicPr/>
          <p:nvPr/>
        </p:nvPicPr>
        <p:blipFill>
          <a:blip r:embed="rId1"/>
          <a:stretch/>
        </p:blipFill>
        <p:spPr>
          <a:xfrm>
            <a:off x="1066680" y="91440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Reconciliation of Models</a:t>
            </a:r>
            <a:endParaRPr b="0" lang="en-US" sz="5400" spc="-1" strike="noStrike">
              <a:solidFill>
                <a:srgbClr val="ebd189"/>
              </a:solidFill>
              <a:latin typeface="Impact"/>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and integrate changes into CDM model</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into DB schema</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CDM classes from Rose Model</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Modify Generated CDM Objects</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lement Serializable</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table ID is contained in Long Class Wrapper</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all ‘get’ methods to a java.lang.Set return a new Set rather than null</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ew ‘add’ method to add single or multiple elements to Set to support Dozer mapping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oint to new DB schema in hibernate-cfg.xml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initial hibernate mapping file (*.hbm.xml) for each DB table</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ithin MyEclipse Database Perspective:</a:t>
            </a:r>
            <a:endParaRPr b="0" lang="en-US" sz="28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ight click new tables and ‘select Hibernate Reverse Engineering’</a:t>
            </a:r>
            <a:endParaRPr b="0" lang="en-US" sz="24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mplete source location and check a hibernate table for each DB table</a:t>
            </a:r>
            <a:endParaRPr b="0" lang="en-US" sz="2400" spc="-1" strike="noStrike">
              <a:solidFill>
                <a:srgbClr val="eaeaea"/>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Generated Mapping Files to match DB Schema with CDM </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eam Standard </a:t>
            </a:r>
            <a:endParaRPr b="0" lang="en-US" sz="24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rimary Keys have access="field“ to avoid exposed getters/setters (requires suppressed warnings)</a:t>
            </a:r>
            <a:endParaRPr b="0" lang="en-US" sz="20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azy="false“ because all entry point data could be needed for VDM filtering</a:t>
            </a:r>
            <a:endParaRPr b="0" lang="en-US" sz="20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amed Queries to DB Elements of Entry Points</a:t>
            </a:r>
            <a:endParaRPr b="0" lang="en-US" sz="28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CDM builder for testing (if necessary)</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5:41:08Z</dcterms:created>
  <dc:creator>Salt Lake OI Field Office</dc:creator>
  <dc:description/>
  <cp:keywords/>
  <dc:language>en-US</dc:language>
  <cp:lastModifiedBy>Salt Lake OI Field Office</cp:lastModifiedBy>
  <dcterms:modified xsi:type="dcterms:W3CDTF">2006-11-30T16:47:07Z</dcterms:modified>
  <cp:revision>145</cp:revision>
  <dc:subject/>
  <dc:title>CDS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181033</vt:lpwstr>
  </property>
</Properties>
</file>